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2741-8648-4C3E-97EF-FD2F91F0AB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A74D-30F0-4335-9D28-46B1E87FBBE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AC25-4B57-4D60-A103-6B5FEE3A168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B408-CF61-47AF-87E3-A136510B314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C1D5-7CBA-4328-B110-C40B9973305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DC10-1FF0-4031-A354-A12A0D5E20D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A32B-9ED9-4D5D-BAFB-6CFB905D3D4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9F7E-BC88-4E73-B63E-9B1CA4C96DF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028D-E01D-4CDC-A335-D7ED27AD4CA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82A0-B41E-460C-ACDC-7012333E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BA62-3F36-4DF5-BB20-23E8E5A6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407F-D34A-4DF5-B189-31C07764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ABDE-36C2-4220-958F-8FE9E4CE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E3EC-DA75-4C9A-8CD1-A84256A5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AA6A-E38D-466D-A27D-160F4CB5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967F-730F-4D52-A4E3-76D1FAE5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3C54-F4D6-41B9-8423-4325FF74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9EF9-3123-4075-8469-891A767C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C872-828E-45C4-BF17-181ABB69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57DE-F1B6-463C-ABE3-2EFBF79D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6415-9D40-452E-97C6-ABA8BBC3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EFCDF-46BA-4C6D-91D6-8BD68E20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0524D-E76C-46C4-9C1A-464AD671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512F9-835D-49A1-A8C5-1934434D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98FEB1-1F9D-4E51-9F30-EC447E34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93322-384D-4C04-8563-6A6A85E6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F02F8-245E-4EC6-9B43-935FA818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6A1EE-4425-4B62-A3D5-341F6850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F74E6-D3F4-4B7C-B0D2-60779F47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7FDB3-507A-409A-B71E-9F66B41D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13A2CD-C8C7-4FB3-B0D7-161D12BC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3BFCD-5002-48D0-826F-35D81750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E4941-D358-45A2-B208-24A32ED1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5722C-E07A-466F-BC36-5ACD6E5B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D15D7-040D-484D-95C0-6962A0E1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A039F-6BA9-48F9-B3CC-2CEE8D85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590D4-7806-4C57-8A9E-938B31FA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902EA-46E8-48F7-8A7D-ACA89D81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BE1CF-358C-4A80-8202-D0F23105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76E90F-3B0A-4362-8DDD-5B272615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13349-BA10-428E-A3F9-00FCBC6D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F620A-2391-409A-B9F0-2292D641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1A4C9-FF8F-45FA-8CC1-DBAD0AA9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83324-3A60-4B01-821F-A6E2C52E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E97E8-3AC2-47FE-A45E-D5FEB071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C33C-73F2-43BC-8B76-2AC1E582218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097D-4678-4DD7-BE99-0BC7798B34A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6E6B-2977-4B3A-B948-F701486DB8A8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5A35-1957-464E-B340-F8B1E25E585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CADB-FBDD-464C-B2AF-3243B032DBB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19C7-4C24-436B-A2A0-C32FD6734F9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F416-7ABC-4EE2-A403-FBF112B25A6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8E53-0A97-4A4C-8C09-4D9EE53364D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25F0-C69F-4EEA-91F1-8734AC92953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CD7D-46F5-4D1B-83C6-9AF2BA52B07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F527-9E86-4874-9034-41335C1F283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D8F8-CD91-4164-940D-752EC1BF10D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9.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상이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3006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285120" y="1765080"/>
                <a:ext cx="864432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20000" cy="6000840"/>
            <a:chOff x="142920" y="214200"/>
            <a:chExt cx="882000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20000" cy="4429440"/>
              <a:chOff x="142920" y="1785600"/>
              <a:chExt cx="882000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00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1524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R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경험하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81080" y="142920"/>
            <a:ext cx="8820000" cy="6215040"/>
            <a:chOff x="181080" y="142920"/>
            <a:chExt cx="8820000" cy="6215040"/>
          </a:xfrm>
        </p:grpSpPr>
        <p:sp>
          <p:nvSpPr>
            <p:cNvPr id="816" name="AutoShape 2"/>
            <p:cNvSpPr/>
            <p:nvPr/>
          </p:nvSpPr>
          <p:spPr>
            <a:xfrm>
              <a:off x="181080" y="714240"/>
              <a:ext cx="8820000" cy="564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250920" y="908640"/>
              <a:ext cx="871380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화와 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terminal drop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기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Clr>
                  <a:srgbClr val="1d528d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가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은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.8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인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를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03960"/>
            <a:chOff x="108000" y="142920"/>
            <a:chExt cx="9288360" cy="6303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85716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7646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85000"/>
              <a:ext cx="8893080" cy="4961880"/>
              <a:chOff x="108000" y="1485000"/>
              <a:chExt cx="8893080" cy="496188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845000"/>
                <a:ext cx="8893080" cy="4601880"/>
                <a:chOff x="108000" y="1845000"/>
                <a:chExt cx="8893080" cy="460188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7000"/>
                  <a:ext cx="8819640" cy="452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84500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관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85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존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48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215040"/>
            <a:chOff x="285840" y="0"/>
            <a:chExt cx="8858160" cy="621504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5929560"/>
              <a:chOff x="285840" y="285480"/>
              <a:chExt cx="8643960" cy="592956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16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329840"/>
                <a:ext cx="8504640" cy="46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非可逆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786280"/>
            <a:chOff x="142920" y="428760"/>
            <a:chExt cx="8858160" cy="578628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43400"/>
              <a:chOff x="180720" y="1871640"/>
              <a:chExt cx="8820360" cy="434340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372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고 탄력약화 → 관절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 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7016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000840"/>
            <a:chOff x="181080" y="142920"/>
            <a:chExt cx="8820000" cy="600084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714240"/>
              <a:ext cx="8820000" cy="5429520"/>
              <a:chOff x="181080" y="714240"/>
              <a:chExt cx="8820000" cy="542952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714240"/>
                <a:ext cx="8820000" cy="5429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836280"/>
                <a:ext cx="8643960" cy="50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감소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갑상선질환 증가하나 대부분 정상기능 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교 및 생식기능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1:27:11Z</dcterms:modified>
  <cp:revision>21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